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955-9F3A-430D-87D1-D0665788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C51-8F2C-460A-BCF1-5892E840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C74-2AC9-4D34-90B4-A170C365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370-6771-4DE9-8623-456D61BF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F79-8651-4646-B248-268AC1B4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94E-DB69-45E2-A0B9-28F041F6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C66-50C7-4D12-9E2E-740A0C3B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D16-EFF6-460E-9111-A876E36D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8BE-D88E-4366-8AD2-957F1FA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BE0-4582-4B15-B9CC-7FF297B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C18-999D-49F2-A42B-B1A6FE1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64B-680E-4A92-A011-C06A3C7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AD1-E8E2-420F-9B23-8562B5F99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卡更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教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制作更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工具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使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更新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制作更新程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卡工具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选择需要制作的程序文件 打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文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击另存为二进制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5867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存文件 ，（保存文件名称必须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.b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457680" cy="2590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5627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保存的文件放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中，即完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更新工具包的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卡更新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断电。插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电，等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灯自动变成绿灯 （由于程序的大小不同等待的时间也不同）。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断电 拔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卡。程序更新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0T03:13:19Z</dcterms:created>
  <dc:creator>JR168</dc:creator>
  <dc:description/>
  <dc:language>en-US</dc:language>
  <cp:lastModifiedBy>JR168</cp:lastModifiedBy>
  <dcterms:modified xsi:type="dcterms:W3CDTF">2019-07-20T03:35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